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DCE-707B-4729-8D78-39DD191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3B8-B414-4BFD-A007-5122D0A5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3D2-ECEF-4143-A042-B8B1C443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9C9-303A-4F4F-93DA-2F8CC75A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692-43A5-4A8B-ADA8-DA4CCA6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BDE-6AC7-4D75-AB84-2FABF42A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07C-FD7F-4BBE-99E0-5B722D8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A8F-FE55-434E-A4C1-30381C62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E4B-9491-46EA-AE0C-5BF15253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87D-8BF5-4756-9CC3-9487FD4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C71-1504-4053-B776-480D36C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FE9-2AD0-4DDA-923E-78DF428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56C1-6DC3-40D9-958A-89D2E1ABD51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2 Šťastie je tam, kde býva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ie je tam, kde býva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Boží vládne du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m každý vie, že nie j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e druha dru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ktorom piesní tó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duše vliev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obeťou chvál pred Boží tró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náša sa prosieb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ktorom zazvo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vinný detský smie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láska vie nájsť na ra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utišujúci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nás, Pane, posil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ja dopraj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dinný kruh náš posväc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ži aj vládni v ná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12:25Z</dcterms:modified>
  <cp:revision>73</cp:revision>
  <dc:subject/>
  <dc:title>Je veľký náš Pán, on slávy je Kráľ Nech do všetkých strán  spev vrúcnych znie chvál.</dc:title>
</cp:coreProperties>
</file>